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570E-BF89-454E-88A0-806D972A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32D7-FE58-4ECB-8449-255267D8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6205-E730-4C49-933B-0BC8CF3B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1EB3-74DB-4C55-9C3E-4D28C1F8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9FDC-F121-4656-83D2-447BC785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7137-94C2-4769-8815-456D785E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8293-85AB-4C8A-ACF2-CC1B7CE9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011A-86DD-4567-B05C-F48F3D1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884C-55DF-473A-B11C-D7D3D1D1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E0D-11AE-467E-BC35-59AD0C4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88C0-C0BE-4784-907F-3021C413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2F91-6C19-4F36-AC16-8431CE3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70FB-541C-4361-B3CE-14F80FF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51E0-9922-415D-930B-5FE80C3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FB6F-FF7F-4CC0-94E7-DCD11EF1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23B8-19CE-48CE-A7BF-2FBA873A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2FEC-C65B-407E-82B8-4D77169F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0EDA-E9FA-45D5-8068-D27F8FC1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B61E-2701-4887-9F48-F411924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F727-110D-4AC9-8F83-1BA6F50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CC3E-3BFB-4832-946E-1F1DA7BB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FC54-2312-4217-A9CB-DC4D341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305E-96CD-44E4-AA85-3D152023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783C-D061-43EF-AD7E-22E0910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899-ACB4-4531-95D2-B28F24B498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CB7F-6E96-4125-A471-DF1395A4B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04320" y="9079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tle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8320" y="2602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versity 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9480" y="14130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8600" y="429264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ctur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tudent 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1120" y="514188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840" y="477504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ail Address -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01120" y="5950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47840"/>
            <a:ext cx="5459400" cy="1109520"/>
          </a:xfrm>
          <a:prstGeom prst="wedgeRectCallout">
            <a:avLst>
              <a:gd name="adj1" fmla="val 8736"/>
              <a:gd name="adj2" fmla="val -7661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lide Trans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andom Bars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o All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ign Templa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mplate\Design Template.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6049800" cy="719280"/>
          </a:xfrm>
          <a:prstGeom prst="wedgeRectCallout">
            <a:avLst>
              <a:gd name="adj1" fmla="val -33444"/>
              <a:gd name="adj2" fmla="val -1126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1747800"/>
            <a:ext cx="6193080" cy="1440000"/>
          </a:xfrm>
          <a:prstGeom prst="wedgeRectCallout">
            <a:avLst>
              <a:gd name="adj1" fmla="val -40412"/>
              <a:gd name="adj2" fmla="val -778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~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444760"/>
            <a:ext cx="6193080" cy="1440000"/>
          </a:xfrm>
          <a:prstGeom prst="wedgeRectCallout">
            <a:avLst>
              <a:gd name="adj1" fmla="val -13648"/>
              <a:gd name="adj2" fmla="val -8682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~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660760"/>
            <a:ext cx="6192720" cy="1439640"/>
          </a:xfrm>
          <a:prstGeom prst="wedgeRectCallout">
            <a:avLst>
              <a:gd name="adj1" fmla="val -23495"/>
              <a:gd name="adj2" fmla="val 7932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997360"/>
            <a:ext cx="6193080" cy="1439640"/>
          </a:xfrm>
          <a:prstGeom prst="wedgeRectCallout">
            <a:avLst>
              <a:gd name="adj1" fmla="val -29467"/>
              <a:gd name="adj2" fmla="val 7414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~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3800" y="3429000"/>
            <a:ext cx="6193080" cy="1440000"/>
          </a:xfrm>
          <a:prstGeom prst="wedgeRectCallout">
            <a:avLst>
              <a:gd name="adj1" fmla="val -27546"/>
              <a:gd name="adj2" fmla="val 750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~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4021200"/>
            <a:ext cx="6192720" cy="1439640"/>
          </a:xfrm>
          <a:prstGeom prst="wedgeRectCallout">
            <a:avLst>
              <a:gd name="adj1" fmla="val -16495"/>
              <a:gd name="adj2" fmla="val 85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~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81240" y="59220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443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0880" y="231840"/>
            <a:ext cx="6192720" cy="1655640"/>
          </a:xfrm>
          <a:prstGeom prst="wedgeRectCallout">
            <a:avLst>
              <a:gd name="adj1" fmla="val -59175"/>
              <a:gd name="adj2" fmla="val -319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5600" y="9986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1630440"/>
            <a:ext cx="6119640" cy="1511280"/>
          </a:xfrm>
          <a:prstGeom prst="wedgeRectCallout">
            <a:avLst>
              <a:gd name="adj1" fmla="val -42476"/>
              <a:gd name="adj2" fmla="val -69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ance\( Blinds\dissolve 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757600" y="3832200"/>
                <a:ext cx="3665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ι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ξ,ψ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Δ</m:t>
                        </m:r>
                      </m:lim>
                    </m:limUpp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κ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Ι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,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ψ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Ι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,ψ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965240" y="5330880"/>
            <a:ext cx="6193080" cy="934920"/>
          </a:xfrm>
          <a:prstGeom prst="wedgeRectCallout">
            <a:avLst>
              <a:gd name="adj1" fmla="val -10009"/>
              <a:gd name="adj2" fmla="val -725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ion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52240" y="34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7960" y="458640"/>
            <a:ext cx="2214360" cy="185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30880" y="473040"/>
            <a:ext cx="2342880" cy="185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2398680"/>
            <a:ext cx="6192720" cy="934920"/>
          </a:xfrm>
          <a:prstGeom prst="wedgeRectCallout">
            <a:avLst>
              <a:gd name="adj1" fmla="val -9625"/>
              <a:gd name="adj2" fmla="val -9346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34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9800" y="3716280"/>
          <a:ext cx="5541840" cy="27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3716280"/>
                    <a:ext cx="554184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56160" y="3284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637000"/>
            <a:ext cx="6192720" cy="934920"/>
          </a:xfrm>
          <a:prstGeom prst="wedgeRectCallout">
            <a:avLst>
              <a:gd name="adj1" fmla="val -32953"/>
              <a:gd name="adj2" fmla="val 8531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 and chart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26:42Z</dcterms:created>
  <dc:creator>dci</dc:creator>
  <dc:description/>
  <dc:language>en-US</dc:language>
  <cp:lastModifiedBy>x</cp:lastModifiedBy>
  <dcterms:modified xsi:type="dcterms:W3CDTF">2004-05-08T13:32:18Z</dcterms:modified>
  <cp:revision>17</cp:revision>
  <dc:subject/>
  <dc:title>Slide 1</dc:title>
</cp:coreProperties>
</file>